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26.png" ContentType="image/png"/>
  <Override PartName="/ppt/media/image50.wmf" ContentType="image/x-wmf"/>
  <Override PartName="/ppt/media/image35.jpeg" ContentType="image/jpeg"/>
  <Override PartName="/ppt/media/image13.wmf" ContentType="image/x-wmf"/>
  <Override PartName="/ppt/media/image36.jpeg" ContentType="image/jpeg"/>
  <Override PartName="/ppt/media/image39.jpeg" ContentType="image/jpeg"/>
  <Override PartName="/ppt/media/image41.gif" ContentType="image/gif"/>
  <Override PartName="/ppt/media/image40.jpeg" ContentType="image/jpeg"/>
  <Override PartName="/ppt/media/image44.jpeg" ContentType="image/jpeg"/>
  <Override PartName="/ppt/media/image43.png" ContentType="image/png"/>
  <Override PartName="/ppt/media/image37.png" ContentType="image/png"/>
  <Override PartName="/ppt/media/image46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42.jpeg" ContentType="image/jpeg"/>
  <Override PartName="/ppt/media/image9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33.wmf" ContentType="image/x-wmf"/>
  <Override PartName="/ppt/media/image8.wmf" ContentType="image/x-wmf"/>
  <Override PartName="/ppt/media/image28.png" ContentType="image/png"/>
  <Override PartName="/ppt/media/image38.jpeg" ContentType="image/jpeg"/>
  <Override PartName="/ppt/media/image31.wmf" ContentType="image/x-wmf"/>
  <Override PartName="/ppt/media/image4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31B-EFDE-4CAA-9998-173C7A73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B0E-E7AA-44DB-917B-004F77D7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6F8-6E62-4113-8B5E-51F9E2A1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615-CF90-4711-BDAC-444E5D4E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B1B-9503-4197-B149-9A0B841F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866-214E-47F2-9F87-BB5A4397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085-A3C0-4B78-89A2-6BD6EF14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8F8-BE90-47C4-BDD0-BDA0A7E1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7A0-E648-4869-95C2-5ECCA366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B53-D3F8-4551-BCD6-C63F87EE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78E-C819-4ACA-85CB-CDD9D4C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687-B058-4E13-A679-C66F1657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3BDD-9374-4110-8935-95D03FD19E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1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geocities.com/simpsonshq2000/Pictures/characters/barney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geocities.com/simpsonshq2000/Pictures/characters/barney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dennisholmesdesigns.com/siteimages/cartoon_picture.png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dennisholmesdesigns.com/siteimages/cartoon_picture.png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C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set of slides focuses on simple short activities for early morning (or any other time of day) VCOP work. Many slides can be re used if you just change a letter, word or number). They could also be printed off as a set of extension cards for the odd minute when a child finishes ahead of schedule. Hope they are of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s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MCj04375350000[1]"/>
          <p:cNvPicPr/>
          <p:nvPr/>
        </p:nvPicPr>
        <p:blipFill>
          <a:blip r:embed="rId1"/>
          <a:stretch/>
        </p:blipFill>
        <p:spPr>
          <a:xfrm>
            <a:off x="1187280" y="3933720"/>
            <a:ext cx="2287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"/>
              </a:rPr>
              <a:t>VC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 level these sentences keeping the meaning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)  there was a bird in the tre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) there was a rabbit down the hol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i) i saw a witch in the garde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v) i saw a cat on the fenc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) i saw a mouse in the cup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Cj04355960000[1]"/>
          <p:cNvPicPr/>
          <p:nvPr/>
        </p:nvPicPr>
        <p:blipFill>
          <a:blip r:embed="rId1"/>
          <a:stretch/>
        </p:blipFill>
        <p:spPr>
          <a:xfrm>
            <a:off x="1116000" y="4292640"/>
            <a:ext cx="18194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j0397494"/>
          <p:cNvPicPr/>
          <p:nvPr/>
        </p:nvPicPr>
        <p:blipFill>
          <a:blip r:embed="rId1"/>
          <a:stretch/>
        </p:blipFill>
        <p:spPr>
          <a:xfrm>
            <a:off x="755640" y="4005360"/>
            <a:ext cx="1262160" cy="1834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MCj04374630000[1]"/>
          <p:cNvPicPr/>
          <p:nvPr/>
        </p:nvPicPr>
        <p:blipFill>
          <a:blip r:embed="rId2"/>
          <a:stretch/>
        </p:blipFill>
        <p:spPr>
          <a:xfrm>
            <a:off x="6593040" y="4716360"/>
            <a:ext cx="193356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Cj04126000000[1]"/>
          <p:cNvPicPr/>
          <p:nvPr/>
        </p:nvPicPr>
        <p:blipFill>
          <a:blip r:embed="rId1"/>
          <a:stretch/>
        </p:blipFill>
        <p:spPr>
          <a:xfrm>
            <a:off x="6804000" y="3573360"/>
            <a:ext cx="1733400" cy="226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MCj02315220000[1]"/>
          <p:cNvPicPr/>
          <p:nvPr/>
        </p:nvPicPr>
        <p:blipFill>
          <a:blip r:embed="rId2"/>
          <a:stretch/>
        </p:blipFill>
        <p:spPr>
          <a:xfrm>
            <a:off x="468360" y="3716280"/>
            <a:ext cx="2482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ne,  Progress, Create, Adore, Foreboding, Speculation, Silhouette, Terrain, Apparel, Vision, Atmosphe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standingly,  Tenderly,  Biologically, Formidable,  Outspoken,  Stern,  Comical,  Pathetic,  Yearning, Dwell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tainer, Furnishings, Rob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nsitively, Timidly, Aggressively, Imaginatively, Unfortunate, Murder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rvously, Worriedly, Patiently, Feelings, Courage, Experienc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ak, Patience, Wasteland, Container, Furnishings, Rob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choing, Doubtful, Emotion, Anxiety, Longing, Progress, System, Communic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gredient, Vibration, Prefer, Nourish, Demonstrate, Enjoy, Le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port, Shelter, Baggage, Companion, Vehicl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underous, Fearful, Marvellous, Attractive, Generosity, 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 banana.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j04368950000[1]"/>
          <p:cNvPicPr/>
          <p:nvPr/>
        </p:nvPicPr>
        <p:blipFill>
          <a:blip r:embed="rId1"/>
          <a:stretch/>
        </p:blipFill>
        <p:spPr>
          <a:xfrm>
            <a:off x="658800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eautiful, Awful, Enormou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erce, Adventure, Accident, Magic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igantic, Weird, Freezing, Quietly, Silently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ravely, Happiness, Joy, Sadness, F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ick 5 WOW words off the board and write five sentences us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autiful, Awful, Enormou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rst, So, Because, Next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iting, Afrai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nely, Inter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words can you think of beginning with the let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ers can change the letter for a different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use, dog, ho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Cj04241380000[1]"/>
          <p:cNvPicPr/>
          <p:nvPr/>
        </p:nvPicPr>
        <p:blipFill>
          <a:blip r:embed="rId1"/>
          <a:stretch/>
        </p:blipFill>
        <p:spPr>
          <a:xfrm>
            <a:off x="611280" y="4581360"/>
            <a:ext cx="1923840" cy="86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Cj04174820000[1]"/>
          <p:cNvPicPr/>
          <p:nvPr/>
        </p:nvPicPr>
        <p:blipFill>
          <a:blip r:embed="rId2"/>
          <a:stretch/>
        </p:blipFill>
        <p:spPr>
          <a:xfrm>
            <a:off x="3425760" y="3978360"/>
            <a:ext cx="1440000" cy="1716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Cj03653920000[1]"/>
          <p:cNvPicPr/>
          <p:nvPr/>
        </p:nvPicPr>
        <p:blipFill>
          <a:blip r:embed="rId3"/>
          <a:stretch/>
        </p:blipFill>
        <p:spPr>
          <a:xfrm>
            <a:off x="6012000" y="3933720"/>
            <a:ext cx="15033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t, necklace, 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MCj04362560000[1]"/>
          <p:cNvPicPr/>
          <p:nvPr/>
        </p:nvPicPr>
        <p:blipFill>
          <a:blip r:embed="rId1"/>
          <a:stretch/>
        </p:blipFill>
        <p:spPr>
          <a:xfrm>
            <a:off x="1096920" y="3860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MCj04124620000[1]"/>
          <p:cNvPicPr/>
          <p:nvPr/>
        </p:nvPicPr>
        <p:blipFill>
          <a:blip r:embed="rId2"/>
          <a:stretch/>
        </p:blipFill>
        <p:spPr>
          <a:xfrm>
            <a:off x="3851280" y="4313160"/>
            <a:ext cx="2698920" cy="211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Cj04175320000[1]"/>
          <p:cNvPicPr/>
          <p:nvPr/>
        </p:nvPicPr>
        <p:blipFill>
          <a:blip r:embed="rId3"/>
          <a:stretch/>
        </p:blipFill>
        <p:spPr>
          <a:xfrm>
            <a:off x="7326360" y="4157640"/>
            <a:ext cx="15206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use, necklace, d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4124620000[1]"/>
          <p:cNvPicPr/>
          <p:nvPr/>
        </p:nvPicPr>
        <p:blipFill>
          <a:blip r:embed="rId1"/>
          <a:stretch/>
        </p:blipFill>
        <p:spPr>
          <a:xfrm>
            <a:off x="3851280" y="4313160"/>
            <a:ext cx="2698920" cy="211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j0185604"/>
          <p:cNvPicPr/>
          <p:nvPr/>
        </p:nvPicPr>
        <p:blipFill>
          <a:blip r:embed="rId2"/>
          <a:stretch/>
        </p:blipFill>
        <p:spPr>
          <a:xfrm>
            <a:off x="1409760" y="467820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MCj04174820000[1]"/>
          <p:cNvPicPr/>
          <p:nvPr/>
        </p:nvPicPr>
        <p:blipFill>
          <a:blip r:embed="rId3"/>
          <a:stretch/>
        </p:blipFill>
        <p:spPr>
          <a:xfrm>
            <a:off x="6494400" y="4506840"/>
            <a:ext cx="14400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use, bird, carr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j0185604"/>
          <p:cNvPicPr/>
          <p:nvPr/>
        </p:nvPicPr>
        <p:blipFill>
          <a:blip r:embed="rId1"/>
          <a:stretch/>
        </p:blipFill>
        <p:spPr>
          <a:xfrm>
            <a:off x="1409760" y="4678200"/>
            <a:ext cx="922320" cy="924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MCj04374750000[1]"/>
          <p:cNvPicPr/>
          <p:nvPr/>
        </p:nvPicPr>
        <p:blipFill>
          <a:blip r:embed="rId2"/>
          <a:stretch/>
        </p:blipFill>
        <p:spPr>
          <a:xfrm>
            <a:off x="3376440" y="400212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MCj04248420000[1]"/>
          <p:cNvPicPr/>
          <p:nvPr/>
        </p:nvPicPr>
        <p:blipFill>
          <a:blip r:embed="rId3"/>
          <a:stretch/>
        </p:blipFill>
        <p:spPr>
          <a:xfrm>
            <a:off x="7240680" y="3959280"/>
            <a:ext cx="63792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oy, car, d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MCj04174820000[1]"/>
          <p:cNvPicPr/>
          <p:nvPr/>
        </p:nvPicPr>
        <p:blipFill>
          <a:blip r:embed="rId1"/>
          <a:stretch/>
        </p:blipFill>
        <p:spPr>
          <a:xfrm>
            <a:off x="6494400" y="4506840"/>
            <a:ext cx="144000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Cj04356180000[1]"/>
          <p:cNvPicPr/>
          <p:nvPr/>
        </p:nvPicPr>
        <p:blipFill>
          <a:blip r:embed="rId2"/>
          <a:stretch/>
        </p:blipFill>
        <p:spPr>
          <a:xfrm>
            <a:off x="995400" y="4022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212957"/>
          <p:cNvPicPr/>
          <p:nvPr/>
        </p:nvPicPr>
        <p:blipFill>
          <a:blip r:embed="rId3"/>
          <a:stretch/>
        </p:blipFill>
        <p:spPr>
          <a:xfrm>
            <a:off x="3780000" y="458640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rite one sentence including the following three no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oud, car,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j0212957"/>
          <p:cNvPicPr/>
          <p:nvPr/>
        </p:nvPicPr>
        <p:blipFill>
          <a:blip r:embed="rId1"/>
          <a:stretch/>
        </p:blipFill>
        <p:spPr>
          <a:xfrm>
            <a:off x="3780000" y="4586400"/>
            <a:ext cx="1830240" cy="1149120"/>
          </a:xfrm>
          <a:prstGeom prst="rect">
            <a:avLst/>
          </a:prstGeom>
          <a:ln w="0">
            <a:noFill/>
          </a:ln>
        </p:spPr>
      </p:pic>
      <p:sp>
        <p:nvSpPr>
          <p:cNvPr id="131" name="Cloud"/>
          <p:cNvSpPr/>
          <p:nvPr/>
        </p:nvSpPr>
        <p:spPr>
          <a:xfrm>
            <a:off x="884160" y="38354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MCj04391540000[1]"/>
          <p:cNvPicPr/>
          <p:nvPr/>
        </p:nvPicPr>
        <p:blipFill>
          <a:blip r:embed="rId2"/>
          <a:stretch/>
        </p:blipFill>
        <p:spPr>
          <a:xfrm>
            <a:off x="6372360" y="3284640"/>
            <a:ext cx="22366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ird flew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tree.</a:t>
            </a:r>
            <a:br>
              <a:rPr sz="4400"/>
            </a:b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MCj04391540000[1]"/>
          <p:cNvPicPr/>
          <p:nvPr/>
        </p:nvPicPr>
        <p:blipFill>
          <a:blip r:embed="rId1"/>
          <a:stretch/>
        </p:blipFill>
        <p:spPr>
          <a:xfrm>
            <a:off x="6948360" y="3357720"/>
            <a:ext cx="18846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 sandwich.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Cj04299850000[1]"/>
          <p:cNvPicPr/>
          <p:nvPr/>
        </p:nvPicPr>
        <p:blipFill>
          <a:blip r:embed="rId1"/>
          <a:stretch/>
        </p:blipFill>
        <p:spPr>
          <a:xfrm>
            <a:off x="6948360" y="4508640"/>
            <a:ext cx="17589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at sat on mat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MCj04364010000[1]"/>
          <p:cNvPicPr/>
          <p:nvPr/>
        </p:nvPicPr>
        <p:blipFill>
          <a:blip r:embed="rId1"/>
          <a:stretch/>
        </p:blipFill>
        <p:spPr>
          <a:xfrm>
            <a:off x="6948360" y="39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ish swam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4175280000[1]"/>
          <p:cNvPicPr/>
          <p:nvPr/>
        </p:nvPicPr>
        <p:blipFill>
          <a:blip r:embed="rId1"/>
          <a:stretch/>
        </p:blipFill>
        <p:spPr>
          <a:xfrm>
            <a:off x="6877080" y="4149720"/>
            <a:ext cx="1790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dog growled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Cj04174820000[1]"/>
          <p:cNvPicPr/>
          <p:nvPr/>
        </p:nvPicPr>
        <p:blipFill>
          <a:blip r:embed="rId1"/>
          <a:stretch/>
        </p:blipFill>
        <p:spPr>
          <a:xfrm>
            <a:off x="6732720" y="3933720"/>
            <a:ext cx="14396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oy cried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MCj04356340000[1]"/>
          <p:cNvPicPr/>
          <p:nvPr/>
        </p:nvPicPr>
        <p:blipFill>
          <a:blip r:embed="rId1"/>
          <a:stretch/>
        </p:blipFill>
        <p:spPr>
          <a:xfrm>
            <a:off x="6300720" y="39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e this sentence by adding words in eg The mouse ate the cheese. becomes The greedy mouse carefully ate the stale cheese.</a:t>
            </a:r>
            <a:br>
              <a:rPr sz="28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girl saw a fairy.</a:t>
            </a:r>
            <a:br>
              <a:rPr sz="44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j0116148"/>
          <p:cNvPicPr/>
          <p:nvPr/>
        </p:nvPicPr>
        <p:blipFill>
          <a:blip r:embed="rId1"/>
          <a:stretch/>
        </p:blipFill>
        <p:spPr>
          <a:xfrm>
            <a:off x="7380360" y="4221000"/>
            <a:ext cx="1120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dog-girl-lamb-boy and must be a NOUN (name of something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j0185604"/>
          <p:cNvPicPr/>
          <p:nvPr/>
        </p:nvPicPr>
        <p:blipFill>
          <a:blip r:embed="rId1"/>
          <a:stretch/>
        </p:blipFill>
        <p:spPr>
          <a:xfrm>
            <a:off x="7093080" y="494172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dog-girl-lamb-boy and must be a NOUN (name of something). 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j0423860"/>
          <p:cNvPicPr/>
          <p:nvPr/>
        </p:nvPicPr>
        <p:blipFill>
          <a:blip r:embed="rId1"/>
          <a:stretch/>
        </p:blipFill>
        <p:spPr>
          <a:xfrm>
            <a:off x="7110360" y="4686480"/>
            <a:ext cx="16700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dog-girl-lamb-boy and must be a NOUN (name of something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47220000[1]"/>
          <p:cNvPicPr/>
          <p:nvPr/>
        </p:nvPicPr>
        <p:blipFill>
          <a:blip r:embed="rId1"/>
          <a:stretch/>
        </p:blipFill>
        <p:spPr>
          <a:xfrm>
            <a:off x="6948360" y="4653000"/>
            <a:ext cx="1197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dog-girl-lamb-boy and must be a NOUN (name of something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MCj04374770000[1]"/>
          <p:cNvPicPr/>
          <p:nvPr/>
        </p:nvPicPr>
        <p:blipFill>
          <a:blip r:embed="rId1"/>
          <a:stretch/>
        </p:blipFill>
        <p:spPr>
          <a:xfrm>
            <a:off x="6877080" y="4292640"/>
            <a:ext cx="17654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sad- dark-kind and must be an ADJECTIVE (describing word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 cat.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MCj04362550000[1]"/>
          <p:cNvPicPr/>
          <p:nvPr/>
        </p:nvPicPr>
        <p:blipFill>
          <a:blip r:embed="rId1"/>
          <a:stretch/>
        </p:blipFill>
        <p:spPr>
          <a:xfrm>
            <a:off x="6948360" y="4437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sad- dark-kind and must be an ADJECTIVE (describing word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sad- dark-kind and must be an ADJECTIVE (describing word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775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 word list beginning with the word below, each new word has to start with the last letter of the previous word eg sad- dark-kind and must be an ADJECTIVE (describing word). You score points for length of words eg dog=3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barney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773360"/>
            <a:ext cx="318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barney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773360"/>
            <a:ext cx="318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character portrait &#10;of nerdy little &#10;boy. fotosearch &#10;- search stock &#10;photos, pictures, &#10;images, and photo &#10;clipart"/>
          <p:cNvPicPr/>
          <p:nvPr/>
        </p:nvPicPr>
        <p:blipFill>
          <a:blip r:embed="rId1"/>
          <a:stretch/>
        </p:blipFill>
        <p:spPr>
          <a:xfrm>
            <a:off x="5364000" y="1773360"/>
            <a:ext cx="327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character portrait &#10;of nerdy little &#10;boy. fotosearch &#10;- search stock &#10;photos, pictures, &#10;images, and photo &#10;clipart"/>
          <p:cNvPicPr/>
          <p:nvPr/>
        </p:nvPicPr>
        <p:blipFill>
          <a:blip r:embed="rId1"/>
          <a:stretch/>
        </p:blipFill>
        <p:spPr>
          <a:xfrm>
            <a:off x="5364000" y="1773360"/>
            <a:ext cx="327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funny cartoons, cartoon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916280"/>
            <a:ext cx="3002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unny cartoons, cartoon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916280"/>
            <a:ext cx="3002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funny dragon sketch cartoon"/>
          <p:cNvPicPr/>
          <p:nvPr/>
        </p:nvPicPr>
        <p:blipFill>
          <a:blip r:embed="rId1"/>
          <a:stretch/>
        </p:blipFill>
        <p:spPr>
          <a:xfrm>
            <a:off x="5796000" y="1989000"/>
            <a:ext cx="29289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 mouse,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Cj04241380000[1]"/>
          <p:cNvPicPr/>
          <p:nvPr/>
        </p:nvPicPr>
        <p:blipFill>
          <a:blip r:embed="rId1"/>
          <a:stretch/>
        </p:blipFill>
        <p:spPr>
          <a:xfrm>
            <a:off x="6516720" y="4869000"/>
            <a:ext cx="19238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funny dragon sketch cartoon"/>
          <p:cNvPicPr/>
          <p:nvPr/>
        </p:nvPicPr>
        <p:blipFill>
          <a:blip r:embed="rId1"/>
          <a:stretch/>
        </p:blipFill>
        <p:spPr>
          <a:xfrm>
            <a:off x="5796000" y="1989000"/>
            <a:ext cx="29289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Old woman in village between Talcha ..."/>
          <p:cNvPicPr/>
          <p:nvPr/>
        </p:nvPicPr>
        <p:blipFill>
          <a:blip r:embed="rId1"/>
          <a:stretch/>
        </p:blipFill>
        <p:spPr>
          <a:xfrm>
            <a:off x="5580000" y="2133720"/>
            <a:ext cx="325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Old woman in village between Talcha ..."/>
          <p:cNvPicPr/>
          <p:nvPr/>
        </p:nvPicPr>
        <p:blipFill>
          <a:blip r:embed="rId1"/>
          <a:stretch/>
        </p:blipFill>
        <p:spPr>
          <a:xfrm>
            <a:off x="5580000" y="2133720"/>
            <a:ext cx="3251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Number: 62, Title: Infernal Girl"/>
          <p:cNvPicPr/>
          <p:nvPr/>
        </p:nvPicPr>
        <p:blipFill>
          <a:blip r:embed="rId1"/>
          <a:stretch/>
        </p:blipFill>
        <p:spPr>
          <a:xfrm>
            <a:off x="5796000" y="2133720"/>
            <a:ext cx="2865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Number: 62, Title: Infernal Girl"/>
          <p:cNvPicPr/>
          <p:nvPr/>
        </p:nvPicPr>
        <p:blipFill>
          <a:blip r:embed="rId1"/>
          <a:stretch/>
        </p:blipFill>
        <p:spPr>
          <a:xfrm>
            <a:off x="5796000" y="2133720"/>
            <a:ext cx="28652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as many words as possible to describe this characters appearance- what he looks like and personality- what he is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redir?src=image&amp;clickedItemURN=http%3A%2F%2Fusers"/>
          <p:cNvPicPr/>
          <p:nvPr/>
        </p:nvPicPr>
        <p:blipFill>
          <a:blip r:embed="rId1"/>
          <a:stretch/>
        </p:blipFill>
        <p:spPr>
          <a:xfrm>
            <a:off x="5292720" y="2205000"/>
            <a:ext cx="34862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00000" y="1844280"/>
            <a:ext cx="46800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Using your words from last time write a paragraph about this charac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edir?src=image&amp;clickedItemURN=http%3A%2F%2Fusers"/>
          <p:cNvPicPr/>
          <p:nvPr/>
        </p:nvPicPr>
        <p:blipFill>
          <a:blip r:embed="rId1"/>
          <a:stretch/>
        </p:blipFill>
        <p:spPr>
          <a:xfrm>
            <a:off x="5292720" y="2205000"/>
            <a:ext cx="34862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Amazing scenary"/>
          <p:cNvPicPr/>
          <p:nvPr/>
        </p:nvPicPr>
        <p:blipFill>
          <a:blip r:embed="rId1"/>
          <a:stretch/>
        </p:blipFill>
        <p:spPr>
          <a:xfrm>
            <a:off x="826920" y="1700280"/>
            <a:ext cx="7705800" cy="45370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900000" y="184464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7043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50560" y="407628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redir?src=image&amp;clickedItemURN=http%3A%2F%2Fwww"/>
          <p:cNvPicPr/>
          <p:nvPr/>
        </p:nvPicPr>
        <p:blipFill>
          <a:blip r:embed="rId1"/>
          <a:stretch/>
        </p:blipFill>
        <p:spPr>
          <a:xfrm>
            <a:off x="539640" y="1773360"/>
            <a:ext cx="8136000" cy="4751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684360" y="1916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10920" y="184428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redir?src=image&amp;clickedItemURN=http%3A%2F%2Fwww"/>
          <p:cNvPicPr/>
          <p:nvPr/>
        </p:nvPicPr>
        <p:blipFill>
          <a:blip r:embed="rId1"/>
          <a:stretch/>
        </p:blipFill>
        <p:spPr>
          <a:xfrm>
            <a:off x="611280" y="1773360"/>
            <a:ext cx="7848360" cy="4728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9"/>
          <p:cNvSpPr/>
          <p:nvPr/>
        </p:nvSpPr>
        <p:spPr>
          <a:xfrm>
            <a:off x="611280" y="1844640"/>
            <a:ext cx="777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hink of at least 5 WOW words to describe an apple, (remember to use your sens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Cj04376710000[1]"/>
          <p:cNvPicPr/>
          <p:nvPr/>
        </p:nvPicPr>
        <p:blipFill>
          <a:blip r:embed="rId1"/>
          <a:stretch/>
        </p:blipFill>
        <p:spPr>
          <a:xfrm>
            <a:off x="6877080" y="4292640"/>
            <a:ext cx="1536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redir?src=image&amp;clickedItemURN=http%3A%2F%2Fwww"/>
          <p:cNvPicPr/>
          <p:nvPr/>
        </p:nvPicPr>
        <p:blipFill>
          <a:blip r:embed="rId1"/>
          <a:stretch/>
        </p:blipFill>
        <p:spPr>
          <a:xfrm>
            <a:off x="611280" y="1773360"/>
            <a:ext cx="7705800" cy="45352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727200" y="1844640"/>
            <a:ext cx="768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words as you can to describe this setting- use your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27200" y="1844640"/>
            <a:ext cx="768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as many words as you can that could be used instead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you use some of them in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727200" y="1844640"/>
            <a:ext cx="768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as many words as you can that could be used instead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you use some of them in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727200" y="1844640"/>
            <a:ext cx="768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as many words as you can that could be used instead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n you use some of them in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727200" y="1844640"/>
            <a:ext cx="76896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ndom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need a book each. Open your book to page 3, count down to line 5 and then along to the 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ord. You must now quickly write a sentence using the word, underlining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again for page 8, line 9, word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again for page 12, line 2, wor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a challenge can you write a sentence using all three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try different books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727200" y="1844640"/>
            <a:ext cx="76896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ndom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need a book each. Open your book to page 5, count down to line 4 and then along to the 4th word. You must now quickly write a sentence using the word, underlining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again for page 7, line 8, wor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y again for page 11, line 4, wor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a challenge can you write a sentence using all three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try different books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727200" y="1844640"/>
            <a:ext cx="7689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 and Verb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se lists of nouns and verbs. Pick one from each and try to make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nci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l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The pencil rushed down stairs and into the garden. (Don’t forget capital letters and fullst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727200" y="1844640"/>
            <a:ext cx="7689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 and Verb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se lists of nouns and verbs. Pick one from each and try to make a silly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re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mbour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The pencil rushed down stairs and into the garden. (Don’t forget capital letters and fullst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727200" y="1844640"/>
            <a:ext cx="7689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un and Verb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se lists of nouns and verbs. Pick one from each and try to make a silly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c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l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r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The pencil rushed down stairs and into the garden. (Don’t forget capital letters and fullst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727200" y="1844640"/>
            <a:ext cx="768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two adjectives. (describing wor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j0424122"/>
          <p:cNvPicPr/>
          <p:nvPr/>
        </p:nvPicPr>
        <p:blipFill>
          <a:blip r:embed="rId1"/>
          <a:stretch/>
        </p:blipFill>
        <p:spPr>
          <a:xfrm>
            <a:off x="5219640" y="4365720"/>
            <a:ext cx="18860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alk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6372360" y="3284640"/>
            <a:ext cx="1512720" cy="93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3429000"/>
            <a:ext cx="1150920" cy="792000"/>
          </a:xfrm>
          <a:prstGeom prst="wedgeRectCallout">
            <a:avLst>
              <a:gd name="adj1" fmla="val 102138"/>
              <a:gd name="adj2" fmla="val 98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116000" y="4941720"/>
            <a:ext cx="1511280" cy="719280"/>
          </a:xfrm>
          <a:prstGeom prst="wedgeRoundRectCallout">
            <a:avLst>
              <a:gd name="adj1" fmla="val 77310"/>
              <a:gd name="adj2" fmla="val -79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727200" y="1844640"/>
            <a:ext cx="768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an adverb in each sentence. (remember an adverb describes the verb eg quick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49627"/>
          <p:cNvPicPr/>
          <p:nvPr/>
        </p:nvPicPr>
        <p:blipFill>
          <a:blip r:embed="rId1"/>
          <a:stretch/>
        </p:blipFill>
        <p:spPr>
          <a:xfrm>
            <a:off x="6084720" y="472428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727200" y="1844640"/>
            <a:ext cx="768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the word ‘after’ in each sent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j0116146"/>
          <p:cNvPicPr/>
          <p:nvPr/>
        </p:nvPicPr>
        <p:blipFill>
          <a:blip r:embed="rId1"/>
          <a:stretch/>
        </p:blipFill>
        <p:spPr>
          <a:xfrm>
            <a:off x="6948360" y="4581360"/>
            <a:ext cx="1592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727200" y="1844640"/>
            <a:ext cx="768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the word ‘when’ in each sent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j0116146"/>
          <p:cNvPicPr/>
          <p:nvPr/>
        </p:nvPicPr>
        <p:blipFill>
          <a:blip r:embed="rId1"/>
          <a:stretch/>
        </p:blipFill>
        <p:spPr>
          <a:xfrm>
            <a:off x="6948360" y="4581360"/>
            <a:ext cx="1592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727200" y="1844640"/>
            <a:ext cx="768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nimal Gam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 sentence about each one using a simile in each sentence. (remember a simile  is used to compare two things, usually with the words “like” or “as”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s quiet as a mouse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8" descr="MCj04241380000[1]"/>
          <p:cNvPicPr/>
          <p:nvPr/>
        </p:nvPicPr>
        <p:blipFill>
          <a:blip r:embed="rId1"/>
          <a:stretch/>
        </p:blipFill>
        <p:spPr>
          <a:xfrm>
            <a:off x="6804000" y="5589720"/>
            <a:ext cx="1924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727200" y="1844640"/>
            <a:ext cx="768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n alliterative sentence about each one. Eg The tiny tiger tickled the terrified terrapins two toes with torn tinse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MCj01838580000[1]"/>
          <p:cNvPicPr/>
          <p:nvPr/>
        </p:nvPicPr>
        <p:blipFill>
          <a:blip r:embed="rId1"/>
          <a:stretch/>
        </p:blipFill>
        <p:spPr>
          <a:xfrm>
            <a:off x="971640" y="5013360"/>
            <a:ext cx="1442880" cy="1458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MCj04241340000[1]"/>
          <p:cNvPicPr/>
          <p:nvPr/>
        </p:nvPicPr>
        <p:blipFill>
          <a:blip r:embed="rId2"/>
          <a:stretch/>
        </p:blipFill>
        <p:spPr>
          <a:xfrm>
            <a:off x="6372360" y="501336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727200" y="1844640"/>
            <a:ext cx="768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of an animal and write an alliterative sentence about each one. Eg The tiny tiger tickled the terrified terrapins two toes with torn tinse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MCj01838580000[1]"/>
          <p:cNvPicPr/>
          <p:nvPr/>
        </p:nvPicPr>
        <p:blipFill>
          <a:blip r:embed="rId1"/>
          <a:stretch/>
        </p:blipFill>
        <p:spPr>
          <a:xfrm>
            <a:off x="971640" y="5013360"/>
            <a:ext cx="1442880" cy="1458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MCj04241340000[1]"/>
          <p:cNvPicPr/>
          <p:nvPr/>
        </p:nvPicPr>
        <p:blipFill>
          <a:blip r:embed="rId2"/>
          <a:stretch/>
        </p:blipFill>
        <p:spPr>
          <a:xfrm>
            <a:off x="6372360" y="5013360"/>
            <a:ext cx="20066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11280" y="2852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2200" y="179244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727200" y="1844640"/>
            <a:ext cx="768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ing Metaphors by Pie Cor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of all, identify something that you want to create a metaphor around eg the stars. Think of something that is like the subject or something to do with the subject - they shine, glitter, are like tin-tacks, like diamonds, like jewels, like fiery eyes. Now use an idea to make a metaphor, remembering not to use the word 'like', e.g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te a simile - the stars are like diam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mit the word 'like' - the stars are diam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ve the noun in front of the image - the diamond stars. Dylan Thomas uses this technique in his wri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rite at least three sentences using a different connective in ea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hoose 3 connectives and write 3 sentences using one in ea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ff"/>
                </a:solidFill>
                <a:latin typeface="Arial"/>
              </a:rPr>
              <a:t>And, But So, Then Because, When, If After While,  As well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hoose 3 connectives and write 3 sentences using one in ea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ff"/>
                </a:solidFill>
                <a:latin typeface="Arial"/>
              </a:rPr>
              <a:t>Although, However Also Besides, Even though, Never the less, In addition to, Contrary to, Despite, So, 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Cj04174360000[1]"/>
          <p:cNvPicPr/>
          <p:nvPr/>
        </p:nvPicPr>
        <p:blipFill>
          <a:blip r:embed="rId1"/>
          <a:stretch/>
        </p:blipFill>
        <p:spPr>
          <a:xfrm>
            <a:off x="971640" y="3933720"/>
            <a:ext cx="1697040" cy="177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MCj04247160000[1]"/>
          <p:cNvPicPr/>
          <p:nvPr/>
        </p:nvPicPr>
        <p:blipFill>
          <a:blip r:embed="rId2"/>
          <a:stretch/>
        </p:blipFill>
        <p:spPr>
          <a:xfrm>
            <a:off x="6732720" y="3933720"/>
            <a:ext cx="18540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y game- a pairs game (o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take turns to say a line in a story which you then hand on to your partner by suggesting a connective, e.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1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re was a woodcutter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2: spent many hours in the forest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ecaus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1: his wife spent so much money at Marks &amp; Spencer, he had no choice to wor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le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re some connectives for you to play with!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eanwhi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urtherm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nethel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ternative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verthel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oev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sequen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esid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ence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E.g –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 lean, grey ca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…. How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ers can you th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MCj04364010000[1]"/>
          <p:cNvPicPr/>
          <p:nvPr/>
        </p:nvPicPr>
        <p:blipFill>
          <a:blip r:embed="rId1"/>
          <a:stretch/>
        </p:blipFill>
        <p:spPr>
          <a:xfrm>
            <a:off x="6443640" y="33577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y starter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E.g –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lowly, she ran down the r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w many openers can you th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MCj03206240000[1]"/>
          <p:cNvPicPr/>
          <p:nvPr/>
        </p:nvPicPr>
        <p:blipFill>
          <a:blip r:embed="rId1"/>
          <a:stretch/>
        </p:blipFill>
        <p:spPr>
          <a:xfrm>
            <a:off x="4114800" y="2995560"/>
            <a:ext cx="912960" cy="865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MCj03206240000[1]"/>
          <p:cNvPicPr/>
          <p:nvPr/>
        </p:nvPicPr>
        <p:blipFill>
          <a:blip r:embed="rId2"/>
          <a:stretch/>
        </p:blipFill>
        <p:spPr>
          <a:xfrm>
            <a:off x="6516720" y="4254480"/>
            <a:ext cx="15606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’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the end of the lane, stood an old house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 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j0185604"/>
          <p:cNvPicPr/>
          <p:nvPr/>
        </p:nvPicPr>
        <p:blipFill>
          <a:blip r:embed="rId1"/>
          <a:stretch/>
        </p:blipFill>
        <p:spPr>
          <a:xfrm>
            <a:off x="7164360" y="4005360"/>
            <a:ext cx="15685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ing’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nning along, Jim fell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 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hough/as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though he was late, he walked slowl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nk  of like this- contin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e was as tall as a bus.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neaky, slimy snak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MCj04174480000[1]"/>
          <p:cNvPicPr/>
          <p:nvPr/>
        </p:nvPicPr>
        <p:blipFill>
          <a:blip r:embed="rId1"/>
          <a:stretch/>
        </p:blipFill>
        <p:spPr>
          <a:xfrm>
            <a:off x="6877080" y="4365720"/>
            <a:ext cx="17542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ed’ st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hausted, Jim ran h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MCj04136000000[1]"/>
          <p:cNvPicPr/>
          <p:nvPr/>
        </p:nvPicPr>
        <p:blipFill>
          <a:blip r:embed="rId1"/>
          <a:stretch/>
        </p:blipFill>
        <p:spPr>
          <a:xfrm>
            <a:off x="6732720" y="4149720"/>
            <a:ext cx="1979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op-in ‘ed’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im, exhausted by so much effort, ran hom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eners can you think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like this- continu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MCj04136000000[1]"/>
          <p:cNvPicPr/>
          <p:nvPr/>
        </p:nvPicPr>
        <p:blipFill>
          <a:blip r:embed="rId1"/>
          <a:stretch/>
        </p:blipFill>
        <p:spPr>
          <a:xfrm>
            <a:off x="6732720" y="4149720"/>
            <a:ext cx="19796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66ff"/>
                </a:solidFill>
                <a:latin typeface="comic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s many adverbs as possible to describe this verb eg. walked - quickly, slowly, noisily, shyly, quie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wro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MCj04136380000[1]"/>
          <p:cNvPicPr/>
          <p:nvPr/>
        </p:nvPicPr>
        <p:blipFill>
          <a:blip r:embed="rId1"/>
          <a:stretch/>
        </p:blipFill>
        <p:spPr>
          <a:xfrm>
            <a:off x="6588000" y="3573360"/>
            <a:ext cx="1830600" cy="2370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Cj04134600000[1]"/>
          <p:cNvPicPr/>
          <p:nvPr/>
        </p:nvPicPr>
        <p:blipFill>
          <a:blip r:embed="rId2"/>
          <a:stretch/>
        </p:blipFill>
        <p:spPr>
          <a:xfrm>
            <a:off x="900000" y="3645000"/>
            <a:ext cx="221940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plus stage direction + ‘ing’ clause E.g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Stop”, he whispered, picking up his torch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7020000" y="4437000"/>
            <a:ext cx="187308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odles, get down!” scre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anca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7020000" y="4437000"/>
            <a:ext cx="187308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 you sure that room is tid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m yelled up the stair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948360" y="4724280"/>
            <a:ext cx="187344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7524720" y="479736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ope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re are different ways to open a sentence on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e you sure that room is tid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m yelled up the stair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many openers can you think  of like this- continue  Your sentence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6948360" y="4724280"/>
            <a:ext cx="187344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7524720" y="479736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rite at least 5 sentences using </a:t>
            </a: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rite at least 5 sentences using </a:t>
            </a: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rite at least 3 sentences using </a:t>
            </a: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rite a sentence using 3 different pieces of punctuation from the list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“  ”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; ,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(  ) ?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"/>
              </a:rPr>
              <a:t>Punc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rite at least 3 sentences using different pieces of punctuation from the list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“  ”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; ,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(  ) ? </a:t>
            </a:r>
            <a:r>
              <a:rPr b="0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0810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"/>
              </a:rPr>
              <a:t>VCO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8836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 level these sentences keeping the meaning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) the cat sat on the mat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i) the dog walked down the roa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ii) the fish swam in the bowl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v) the man sat on the bench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) there was a duck on the po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08:28:51Z</dcterms:created>
  <dc:creator>Administrator</dc:creator>
  <dc:description/>
  <dc:language>en-US</dc:language>
  <cp:lastModifiedBy>Jim</cp:lastModifiedBy>
  <dcterms:modified xsi:type="dcterms:W3CDTF">2008-08-05T09:35:30Z</dcterms:modified>
  <cp:revision>21</cp:revision>
  <dc:subject/>
  <dc:title>VOCABULARY</dc:title>
</cp:coreProperties>
</file>